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EDA-4E38-41CE-B0CD-C447A50C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3ED-9D64-496B-A51E-3DC1B5A3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739E1-8D1E-4C78-B47C-FBF2562C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7BFEF-E604-48D4-8A5A-9B045FDA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ADD5E-B55C-4E2D-8A29-FA21B076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25488-ED36-4657-BB76-B5EAA492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2CB3D-986D-4523-98C0-E2793233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F3477-E9F2-4A76-948F-E80CB641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05C05-E81A-442C-A32D-7073BA33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E5246-07D0-4A69-9E73-C5F5108B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50C29-405D-41D7-9714-FC14AC73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B6268-5F50-4D0B-8B45-BEC976A1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146-FDDF-4BE8-9470-05EAD176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B5548-7B7D-4A69-BC2E-FDA9054F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0CAD4-1286-4A81-B9ED-76332D13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48794-485E-4483-A0F4-80B25717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66A35-9354-4563-B35D-51602A09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1E5CD-614B-4FC9-BE5C-CEF57E73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4488D-FCCA-4AB9-B0B2-3BF91B69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81498-DB44-4709-B2E8-00625D05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5D867-DD7C-4922-B89C-A5604243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E4C82-4B98-463D-A434-8134CD64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395A5-CD2E-4CA4-A499-149FD6C3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C97-9BD9-46B9-9F0A-5EB6A6CA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ACE65-1A81-4751-99B5-7A23D27C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BBB3F-D7BC-41FB-873E-30530E05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21EA7-DE18-40E0-ACB4-3CF55678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AAE4E-C296-47A9-9E79-2281E05A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E5FBE-D0B0-456C-9E36-B27C3D74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05B4D-69F9-458E-80D1-6BB66B33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1E9D5-971C-4EB4-A5ED-C853B4EF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79479-E32C-4C6F-9C91-7024C16D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E9BC1-0B4A-462C-9F26-5065E6C3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4048E-1D00-4A4F-9D02-EBEDDA49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9900-36AF-4767-A42A-F7A87A60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89151-7E5A-436B-8B42-F9728DE7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5A1F5-01FE-4518-B3AB-3B056CAB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3281D-2316-421C-903E-2D44FB14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7E04C-436A-42C8-9FDC-0A02A628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C7A15-9B8E-4113-AD88-21D98BFB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82620-7AE6-4A8E-9093-D2F84EF8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211EC-FD07-4380-A419-0A3BDC7C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80334-6996-4DA7-9372-D931CF97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3B5CE-1517-4CA6-95E1-A0CC3449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B6EA5-D13B-4E0F-8937-580C50C7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535E-E57D-404E-AF3A-BA5C92AE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841A0-29C0-44C3-B161-20263A75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DC135-9D3F-4F36-A587-4ACDB581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95F58-551A-48D8-9D6D-206C8273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ACDB5-F22D-4185-8F3A-46057E3F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A2B84-84FA-4682-ABD5-9FDFD54D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42350-21E1-4A07-A9A9-CB4268E8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399FE-1EAB-473A-8916-06AA7B33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B89E9-9788-47E0-9DBD-A809107C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0024D-077A-47B4-890C-2464E8D8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C0FFB-C72E-4CD1-9C99-54DFA81C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BDD8-7C02-4C39-B54F-37B45B7A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123A5-88F0-4E70-B57D-00786B6E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6AA2B-3D7C-4444-9C39-6F568668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00D7B-2397-457D-BFCA-2CB0D566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63764-B726-46C8-8097-EFBD21BF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E099C-8595-48C7-8AFB-02759E2F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A4806-2499-4B59-BEBE-FC75D1E3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3530C-FDB5-48ED-8512-2B4D0F49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C7FFA-BB62-4E33-B9CD-869A5967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00556-5EF6-420B-AB5B-62B3FB6E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4776C8-CDDB-4F41-8659-F2212DC6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F7F5-E927-43D9-A3AC-97B36E37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DCF56-C962-49ED-93F6-23D41856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9AC90-97D1-46BC-9DAD-CBA4E092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C2324-5F09-4CA4-AE54-4918BA42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4D8C9-1D1A-4069-B2C5-B3291696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C0061-A7D9-4252-B29B-CFFB3B6A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63902-4CCB-43BC-BB3B-A47C3506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3CA00-EE4A-40D2-A4EA-E577D8C7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8D9E9-7FE4-4DF5-9DC9-B89E2B07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B1182-0DA8-43FB-8F78-87340010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526C66-2E51-4487-870C-5EFD10A7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CF73-4228-4509-8C86-663DEB7A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DCE3C-F37B-405A-B9C4-E7D1D684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AC7D3-CC67-4A63-8806-47790B0E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05233-5B41-4514-AA2A-FD24DA76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ECAF9B-2BF0-4352-AAFB-43E66FE7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6C102-E0F5-43D8-8B07-C5F920B2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DED836-5074-4A72-8A4D-4FC63E4F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8FEED-A632-4015-B67D-5DC4791E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907490-47D0-4492-8A5F-3A3F301D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F371C-321E-49B0-AB81-54A5574D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621D8D-D343-4BAF-BC81-2ADDE1BA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3AB9-8EEC-4821-B929-A7A84F99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51D18-AEA6-4562-992B-33965E73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482D6D-F494-48FA-B0C8-B191F38E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49D1B-D9CB-4AF7-B417-9BBD7CD4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E3D3B-8729-4C94-88C3-252BB194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3E417-CB53-41B5-9407-D0F7CDA9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5F80C-C95D-4795-8ED9-1E0CAF94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748B9D-7FF3-4B32-A97B-65CFAD83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661AE-E592-42B3-B1DA-7BCD7B91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94D5B-E3A0-4FD6-9848-E6005B27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B83CA8-51DB-44A9-9167-F1466A4F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7E96-456F-4F38-A966-6B40EDB7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D82B9F-F60E-4F9F-A494-7FA2A980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122E09-EBA8-4642-90DE-B498AAAD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B1F2F-AAAA-4D02-8228-A2EBF4B5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E5BA8-5C9C-471F-BC6B-155765E1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15AFB-0E44-4ABB-8628-25664B91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43FF8-9CE9-4966-8A1E-DAE688E7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3BACDD-A068-46E7-B3D7-AB97134C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07652-A040-426B-B182-9A265C24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0E0CA-32A4-4DCD-A224-30CC7DEA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396C72-8952-46DB-9AB0-42CC5444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83C-1F6F-4F5B-A8EF-102A9921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47FA-785D-4B63-B661-C6720E3F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B98AC-024A-4BCB-83BC-4C2EE3E9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C2931-DCA7-43E5-A127-A1EEBD72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3354FF-AA23-4B95-8D6B-57C4F5AB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2CD7C7-5B6C-4CCF-A2D7-59A1ABB5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CCEF1B-F552-46F6-99AE-E925F1E1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2BCFD-9ED4-4F38-A200-26CF5E40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38C942-513E-4538-BE45-7155AA97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640B5-F3E3-491C-82F0-E0BD0081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36A8A-5D05-483C-A46A-07F7E951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1941C-A0C7-4345-A83A-F3519EF9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5F98-64AC-4D60-8B07-1E7653FF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D18F3-FAAF-4540-94BB-E3661974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F2B867-82BF-4E57-B620-0CD0333C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5EB049-20D1-4983-BAB7-567AE89B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290473-978F-4258-85F5-C693F53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8F3F3D-CF0C-4DEF-B9C4-7AB2B571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835EC-0640-4633-AA19-F41DDF9F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270215-8357-49BF-A60C-0BD5B33E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42E29-035F-491A-86F5-1994225E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9158A1-4A23-4F16-A060-05AD0504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2EEB8A-F90E-44C2-8AC8-4FEEDA2C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2FF2-C483-4377-A032-60360653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DEA7AC-4E1C-4B82-92E1-7D4488B5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A97DF-2FAF-4086-948C-95E696DB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E60D14-3E6A-406E-9E5F-3A8C4640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C1CCB3-9D0B-4824-BE26-5A515EC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01205A-75E7-4FA9-8B4F-DE6CDE60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345B33-D19C-48C9-972C-474F7214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D82AD2-315E-45F3-83BF-459C8C3C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76F0C2-CF2B-4C07-A465-9483B307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12177-9667-4A66-ACE0-D5BE2126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005300-50E8-4036-B0CF-D56A80CC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CE3B-F77C-4331-A74A-4A2A7C36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3E8FB9-44CB-44BC-9BD6-D7253E3A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FAF778-DF3F-46AD-AA7C-FFBE7273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B0341-AAEC-4976-8413-FA67BB08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2FA9C7-1B1D-4C6A-A316-A1EC7E1C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30F2EF-17D0-4330-8BCD-6259AA49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77D13C-9551-4B45-8A6C-F3B4AD2C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A1F65F-0E57-4FD1-8789-904E75C9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FD513C-CB4F-4CF6-8248-09A55FD9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B09B29-3FC5-42FC-8E4A-ABC7E212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CCB4E4-20EB-43FA-AC09-3FAC6C39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3E1F-719C-4423-8D14-4CFA85A1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BA1F14-0F6D-42EC-BB57-0103DB6B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470F01-7589-47B1-8035-30C5CA7D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27F9B4-125A-43EF-94E5-5F318C81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34014E-F92C-4E8C-8770-344845BB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E2E2B6-22D9-48D2-A567-23A4E36A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084E24-D76A-4C78-AF3D-E20B868D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EB7C34-B70E-4572-B94A-800B6D97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96DC1-A5F1-4D47-AD8E-CE76939A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4716E5-E52B-4738-9193-3D9DD62B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7CCEB0-70B3-4D15-874C-8B9F4246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05B7E-8BA4-44A7-B88E-AA789E0B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C18E87-6F8C-476C-B739-00E31376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725D4F-3DA7-4639-BAA9-1D0F4826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640CF-569A-4C6C-9A5F-88A37A12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F9D6FD-BDD3-448A-A27C-790CA7CB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F98171-1A59-4B18-947E-C5C354BF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963682-C5DD-4BD5-92D9-D03886EB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B1B2D7-CF0F-4420-9F26-2330C44B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285150-4629-4F5A-88DF-D1EC5B10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C20810-3843-4188-A322-4EE2B1E6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C021FE-FA5C-4AE9-AA72-A48B29E5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A843-1F78-43F7-A21F-4C56B69E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6ADC54-C142-4988-B22F-EB31DA92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7B27B8-09D5-4ADF-A2F7-BE4BEDAA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28B4DA-6350-475E-A849-F740446F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CCE184-5BF7-4963-827E-DA4ABCA5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F05E33-3737-4C12-B3C0-17B763AF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96B2CB-6AEA-4BC3-A990-1068CFB6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2A81FB-2D51-42B2-9923-36BF38EC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114B42-294D-4C68-82EF-1A5E36F0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816D30-CE4C-4163-B7D1-20190F29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FB9A78-E353-4169-9499-905AB465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97020-0343-4BA4-91E9-39EC254D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4B28C1-6DC3-4F78-9101-1CA69008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F3C11B-5285-4A82-835F-CDFF52BE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7BD78D-965E-43E1-90FB-173ACF85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5B922B-2AA9-46C0-9930-C79EF3B3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BC5A7C-D600-430A-8418-F41525C8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6B230A-5B75-417C-B3EE-FF768DD5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4D8455-C86F-4F3F-861F-0CC359D7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964AC0-122F-4CC1-AC0B-9657B18E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F8F2E3-2AB2-4079-906F-1BF3D064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3B61D2-1847-4C96-96E6-31E0E2E8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F7DFA-335E-4A9D-B145-1F6165EF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5A0C57-ACB3-4BAC-AFF2-88B8964D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191CD2-907D-43F7-A763-0339C8EC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003A4C-A5F8-48D8-9ACE-B3452084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E9D11F-BE21-4724-8D78-58672F2F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FAD8EF-4FFF-48FD-BFAB-9C5E6485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26EE0F-EAFE-4AFB-9E6A-5C68675B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E8EE24-82E7-43A3-81D2-E4F5A6D1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4C6B1D-DF39-4424-9CA1-D72CE004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E9EC6E-72BD-42C0-BEAA-A848D1C7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D2E21F-6442-4F47-92B1-52B9DCF6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1E3DC-C2FE-443F-80F1-D7C74D87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6EEB41-D0A0-43BE-943E-497602DD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5A6C11-29AB-4B6E-B135-C51211CD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055B74-1DDA-4378-A9D0-E75949FC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BAC08B-4B0A-445C-88A9-ABB6F373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2E4155-6FDB-41B5-BB02-C173C228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829162-BFB2-42A8-9DBE-C6B50DA2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67ECB3-A952-4BB4-BD55-282237D6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2792C9-298D-47A1-AA68-91F2E45E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D33B43-EEF0-494A-AF5B-16836952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1B5C3B-36C9-493E-A5BF-C42B5433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4DA-7200-45F9-88D6-A473B551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0FBA-FDAC-4333-9A44-739839BC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5D6682-77F5-4FA1-8A16-7857B5F4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D29204-9080-49E3-A1E3-10B8BAEC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A15330-93FB-406E-B437-91024EB9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287E43-0A60-412A-97B3-A6C4DC2D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7245BA-46F0-4478-9B50-24B3D4BE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F8658D-C8F3-455C-852B-9264F956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2BDD6F-0227-42B4-B798-79C22FCB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FA15EF-F704-44D6-8C4E-865947B3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3D7E42-4154-47D1-82BC-246981FD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41E3D1-817F-4D0B-A8F5-20A4A33A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AF890-02E7-420E-963A-AC284412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E9646F-AB0F-40EC-BF50-C23A9AD8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FAB861-2CF1-4AF3-92FF-F8E6E0B3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CF6922-C46B-4316-9741-828EFC03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C138E2-A735-4AE1-8F58-EA0B5D8E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D232C0-B326-4DB0-A9B4-AB5671FA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F618C9-B117-414E-9038-B2BF574B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52BF51-59B3-41CB-8435-E175CEA8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9193FF-95C4-46A2-A5E8-D09935C7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BE6429-E9D8-4ECE-AA11-B5CBB9C3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DD4AB9-D302-4AC6-8408-BCEFF901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BB4E-3088-494A-A35A-597FFEB7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B86841-18BF-4CE6-925B-9AB2024B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66A585-01AB-410E-BFC9-C2093AA6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1B9BBE-8226-40EC-955A-5EF02206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DF015C-022B-4973-A389-C929AA01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6FF4C4-01D1-410F-BE7E-E27DFBCA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CFED87-898E-40A0-9E2A-36CB66FF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48A570-338B-4ACC-924F-8F9D841C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6FFA17-418D-4DF1-82AD-4072C8DF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10458D-F1FF-47FF-833B-68A21E09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5BE182-0D0C-4687-AABF-A5A431E8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5537-E10C-47B4-AEC8-CFA523AF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587795-EAC7-4F16-B836-2B12DD74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6F141C-955E-4441-AEFE-9FFA2BF0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8C8C05-A9EC-4710-B391-8FED3B47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71D0F9-195E-4566-9A5E-139573ED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3F493F-4B04-4C7C-B2C6-5ACBFADB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5099AF-8F42-41A0-953C-CB35A0A1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4696E8-5724-480E-AC03-42AA1E84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CF0E68-2935-4A86-A025-D1870BE0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01C59A-9F0B-464C-A2D5-FAD7A01E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04ADA2-CC08-496D-A45E-AA969DA3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F864-0554-4933-ABAE-9EA51FF1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7C6355-F111-4258-91CA-CF42A45C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4B2D2D-E9DC-4959-B57A-B046298B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E1B354-F8CD-4085-BD55-DA67CAC6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89ACC1-CB54-4226-AA2D-D51ADDFD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DB585E-42E8-4133-BFD3-654FF045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F35A3A-E104-46D2-BC14-89F7BE75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D46C6F-235A-4799-ADC3-9E38B1BC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6A6CD4-1DEC-4090-8F1F-94E8DCDE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1566DF-48C9-4EA2-AD09-D3FB3EC2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28D970-2A5C-4797-93C6-2D07FA77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DF45-480D-4C16-87DB-B4258AB7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D0EBFF-4152-442B-9440-BEBFD0DC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CD4949-3981-4A2F-99BC-105E1601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6D2D08-B304-4EE3-8E01-4AF2700D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09BDFF-EB9C-464C-B200-45107216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F97678-1960-4D3D-AB9F-824930C0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673574-A208-4815-9AE3-614AE0B5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D38767-E26F-46D8-A102-EB7AF0C1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3452EC-846E-43FE-9232-8DC1F18E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9C02D8-EC74-4FAA-AE5D-4DB5853C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D4F94F-3C53-4400-AD12-5E56A4E4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8FF3-1259-4FAF-802E-C489E573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4AFBF1-BCFB-4476-A675-9838AB3C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14171A-2EA3-4B58-8E19-6DA6773B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4CBED9-7440-4843-B689-EF0CAF9E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89A550-2266-4790-A7B0-46467F6A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0B246C-6C41-4783-A4C0-2E4CEE3D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12BC1C-350A-4C87-A5E3-C490D95F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FBCD72-9787-4B86-B1B0-9848A1C0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592EA1-E58A-427C-95BA-93E2B0C0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F4C128-7DA0-4DB3-B273-33FC14BE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193559-3408-4856-9B7B-E960E6C9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3362C-2FA9-421B-BE0D-6B20D235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7092CC-940B-4061-A6AE-02392D71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00FD06-5BB6-4105-AB03-2C65D8EE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BE3C1D-FD5F-4C70-98F3-78883933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5DF14-3E83-4763-A1D3-09FC44DA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D073F-A9AA-4D0E-A7B5-5F5900D4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217-BD0F-4952-87F2-0DC3E75B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BB3CF-23CB-4DF7-BE71-B1198EE8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159AE-E67B-4E06-826A-66A33ED3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BAA71-6D7F-4E86-A5EC-22F25847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12B5-7520-4B22-93DA-DBAE6BA7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FB274-ED13-41A5-9A60-90EBE5F1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51A5-3D3F-426F-A434-5A67DB5C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9CF0D-8B7D-4EF1-9E1E-1A1F4CE8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C1D0-33A4-4CD6-8764-FCD3C59C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9BF1-EB71-4D45-8F1A-879DA7EE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D4A50-AA85-425C-8145-F31A0BFC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051-C1F0-42A9-9625-6E421A45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B4735-E09E-4924-965D-46F622B8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34B9E-C161-48FD-BF83-C01AE51E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3A08C-5837-4577-B68C-3E1ACA68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1C579-FCD5-4163-9CD9-578C5C20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8282F-E0C9-457A-BC37-CAC11359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BDC34-F79D-4B41-ACFB-B11E5BB1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20ED6-57B9-48AA-8D0E-61C4CB16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8EF46-EFA9-4709-ABDE-EA845579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F117A-F568-4D64-BCDE-D7120349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B8EDD-F592-4208-8009-5E7E5383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7C1-26E1-4B36-B217-3CEB56BB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077CB-CAFC-41AA-AA22-6464143D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749D0-52A1-4BA1-8689-AD9C00CA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F9DDD-5C20-4898-920A-4BB671B6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4E2D2-A3EA-4DAD-86C3-01E50A16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A985A-4702-443F-A318-C70ED9BB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F31A2-FCB5-41FB-8724-B0968AF1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7B999-C7B8-42B4-9EDE-99600981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480D3-A1C1-4AB2-82F1-8C0B91D6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5F237-2F07-4B1C-941C-27EF314F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BD459-7D56-4ED8-A960-3C9083C0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F8A-9D2C-462C-9C99-A6C0551D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6DF4-A997-44E7-B778-5568FC00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546D0-1662-438B-A357-5DE2F06A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D948E-D933-48C0-88F0-49E2E009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2C370-B1F1-4C20-BA38-CF134D16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08B06-4E42-4568-BCF3-8C3F6602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D7A15-BF3A-4334-B93F-FF362136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A54EA-1B3A-4B84-9698-09F43D69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7873D-7E8C-4373-91C7-441964E2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6C29F-FD15-4CB2-B3F5-7764F687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A7B6D-67CA-4A6D-A99F-6902FBE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664-89F1-483B-BECF-528A7402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3D11F-77A4-434B-B152-B7B20692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3DC5C-201A-419A-9B30-EFB4E55F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9A8C6-FB10-41B0-9DEE-BE9D8136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A00D9-65DC-49CC-98B6-646F5387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D0BE5-B621-4938-AFE7-587D9F3F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E13FF-3550-443E-96E9-69D5B131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C7CD9-449C-452C-82CA-11AC45C4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5E019-2083-4C56-8E2D-23D2ACC2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EF76C-5EE5-4D3E-A178-E4AFFF51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00FB2-4560-4B35-866E-C03F419C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B86-CF36-4A30-BB4E-FE30FE4D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31F72-0ED1-496C-AD7B-BF22DD95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C2BE9-73E0-4358-9D64-18AF20F4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E0B52-4F10-478A-BB73-6841C1D0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AA203-80D5-4EA8-83EC-EBFDFD6A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7F947-B8BD-47AF-B28D-BBA3076A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19DF6-68DD-4210-820C-05630718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F0E44-AE89-48D8-838C-976CA909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A1956-E6ED-49E1-B8F2-0A32DE67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7B5B6-B497-49F0-834E-FC423C24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A7880-DE15-4BB3-A6F3-4A70CAFF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8A82-DB7B-4DB0-97E7-332D8974AA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BD45-0C97-4D16-B088-16DEBEC123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9317-6B4C-4E73-8FB3-A95E84A0D9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27A6-8044-4A10-9A35-65C22F9404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4D50-FB3F-4923-A40E-65D2A18226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675F-D7E7-44CA-9A7A-F5E0D6466F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3003-2FEF-4BD1-AC0A-F48F628094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1FF8-0A74-46C4-B11C-FE8AED6418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3262-3B61-4B03-938A-3E72FD5FB8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5DB9-E7AC-42A0-A820-A4E39C92DF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4D7B-62AB-484C-B6EA-C5E4D02A58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1B25-C786-428C-AB12-B2852B1642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B313-DF42-4957-B6A5-A7B60EDF3E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69BC-3E50-4284-9F3D-464A3B866E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82A8-A4F7-4E12-AC8B-691E7AA141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EF0F-1362-498F-8A83-EBBA9426AD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55FD-3D48-46F4-8E79-B658D7365D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1B02-EC2F-4D19-9B7B-920E14EF16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CE65-7DFE-4C76-9580-FFC01B5C47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D2C0-E407-4066-A3E0-B1DB88E26B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FEBE-9DE0-4CF1-A9EB-4C0793102F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B12E-82B8-4843-A039-B5EE2BA56F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8AFB-ECF3-4FAF-AF8C-F7D37A8D19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86EB-B8F6-4673-90BD-2D48C4AD31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E374-F51D-416D-ADE4-64031FB0DE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5C40-A056-470A-A915-8BC4CEF591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EA86-C279-4FF0-818C-8DEB9D4C54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8B1A-816C-4DEA-BC8A-3D2EAD764F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00CA-3385-4C8C-9BC5-14AAAB9135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16D1-F456-4E54-B017-4FD122C166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F970-367F-4824-87B6-2FE00CA570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1FEE-767F-4A37-80B4-9CA08FAF42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EE66-5F63-4A4B-874E-7AD725AE0E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2770-C0DE-4F7D-A9FA-DB7EEF34CD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A8D4-7994-41F5-B393-33B1FB1882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C1BD-4F39-4345-A683-7DF6E6D266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D2B7-DD93-4AB3-B3B1-DFCB99689E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908F-8319-4F39-B0BB-683C6B3795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D38C-369B-4EB2-BB4A-82F7761DCA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64EA-D056-48F0-B2CD-85CA1623E8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DC5C-C6E7-42F6-9166-DD0698A2A6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141E-BED4-4DE9-89EA-22BDBF0B42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F00C-5145-430F-81A7-DDE4BACDBB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11B8-0BF8-418A-B7BB-DD9AEC885B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2301-3AEE-4AE8-985E-DCA4E7017D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5A53-03E6-4D1C-A2E2-2307D45884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B179-2E91-4F9C-BB5D-BFF1D0D972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E211-4B4F-45A1-BE3C-D744F520DB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CD74-F009-4883-851A-00688F88DB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501C-6731-4EF6-BBBB-105B273F44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861840" y="3129120"/>
            <a:ext cx="742032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6738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467840" cy="255276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6740"/>
          <p:cNvSpPr/>
          <p:nvPr/>
        </p:nvSpPr>
        <p:spPr>
          <a:xfrm>
            <a:off x="839880" y="4181400"/>
            <a:ext cx="77356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571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77200" cy="410508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5714"/>
          <p:cNvSpPr/>
          <p:nvPr/>
        </p:nvSpPr>
        <p:spPr>
          <a:xfrm>
            <a:off x="915840" y="193356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5715"/>
          <p:cNvSpPr/>
          <p:nvPr/>
        </p:nvSpPr>
        <p:spPr>
          <a:xfrm>
            <a:off x="1011240" y="249552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5716"/>
          <p:cNvSpPr/>
          <p:nvPr/>
        </p:nvSpPr>
        <p:spPr>
          <a:xfrm>
            <a:off x="992160" y="304812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5717"/>
          <p:cNvSpPr/>
          <p:nvPr/>
        </p:nvSpPr>
        <p:spPr>
          <a:xfrm>
            <a:off x="944640" y="3562200"/>
            <a:ext cx="773568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5718"/>
          <p:cNvSpPr/>
          <p:nvPr/>
        </p:nvSpPr>
        <p:spPr>
          <a:xfrm>
            <a:off x="982800" y="4086360"/>
            <a:ext cx="77356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5719"/>
          <p:cNvSpPr/>
          <p:nvPr/>
        </p:nvSpPr>
        <p:spPr>
          <a:xfrm>
            <a:off x="992160" y="463860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5720"/>
          <p:cNvSpPr/>
          <p:nvPr/>
        </p:nvSpPr>
        <p:spPr>
          <a:xfrm>
            <a:off x="954000" y="5162400"/>
            <a:ext cx="773604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4689" descr=""/>
          <p:cNvPicPr/>
          <p:nvPr/>
        </p:nvPicPr>
        <p:blipFill>
          <a:blip r:embed="rId1"/>
          <a:stretch/>
        </p:blipFill>
        <p:spPr>
          <a:xfrm>
            <a:off x="733320" y="1595520"/>
            <a:ext cx="7505640" cy="370512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4690"/>
          <p:cNvSpPr/>
          <p:nvPr/>
        </p:nvSpPr>
        <p:spPr>
          <a:xfrm>
            <a:off x="973080" y="266688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4691"/>
          <p:cNvSpPr/>
          <p:nvPr/>
        </p:nvSpPr>
        <p:spPr>
          <a:xfrm>
            <a:off x="992160" y="320040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4692"/>
          <p:cNvSpPr/>
          <p:nvPr/>
        </p:nvSpPr>
        <p:spPr>
          <a:xfrm>
            <a:off x="934920" y="373392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4693"/>
          <p:cNvSpPr/>
          <p:nvPr/>
        </p:nvSpPr>
        <p:spPr>
          <a:xfrm>
            <a:off x="915840" y="429588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4694"/>
          <p:cNvSpPr/>
          <p:nvPr/>
        </p:nvSpPr>
        <p:spPr>
          <a:xfrm>
            <a:off x="934920" y="481968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13667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69436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12642" descr=""/>
          <p:cNvPicPr/>
          <p:nvPr/>
        </p:nvPicPr>
        <p:blipFill>
          <a:blip r:embed="rId1"/>
          <a:stretch/>
        </p:blipFill>
        <p:spPr>
          <a:xfrm>
            <a:off x="561960" y="1647720"/>
            <a:ext cx="8020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11617" descr=""/>
          <p:cNvPicPr/>
          <p:nvPr/>
        </p:nvPicPr>
        <p:blipFill>
          <a:blip r:embed="rId1"/>
          <a:stretch/>
        </p:blipFill>
        <p:spPr>
          <a:xfrm>
            <a:off x="581040" y="1371600"/>
            <a:ext cx="7981920" cy="4114800"/>
          </a:xfrm>
          <a:prstGeom prst="rect">
            <a:avLst/>
          </a:prstGeom>
          <a:ln w="0">
            <a:noFill/>
          </a:ln>
        </p:spPr>
      </p:pic>
      <p:sp>
        <p:nvSpPr>
          <p:cNvPr id="1476" name="矩形 111618"/>
          <p:cNvSpPr/>
          <p:nvPr/>
        </p:nvSpPr>
        <p:spPr>
          <a:xfrm>
            <a:off x="1011240" y="2419200"/>
            <a:ext cx="773604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1619"/>
          <p:cNvSpPr/>
          <p:nvPr/>
        </p:nvSpPr>
        <p:spPr>
          <a:xfrm>
            <a:off x="1011240" y="292428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1620"/>
          <p:cNvSpPr/>
          <p:nvPr/>
        </p:nvSpPr>
        <p:spPr>
          <a:xfrm>
            <a:off x="954000" y="348624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1621"/>
          <p:cNvSpPr/>
          <p:nvPr/>
        </p:nvSpPr>
        <p:spPr>
          <a:xfrm>
            <a:off x="878040" y="4019400"/>
            <a:ext cx="773568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1622"/>
          <p:cNvSpPr/>
          <p:nvPr/>
        </p:nvSpPr>
        <p:spPr>
          <a:xfrm>
            <a:off x="849240" y="453384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1623"/>
          <p:cNvSpPr/>
          <p:nvPr/>
        </p:nvSpPr>
        <p:spPr>
          <a:xfrm>
            <a:off x="735120" y="5105520"/>
            <a:ext cx="77356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059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72560" cy="519120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10594"/>
          <p:cNvSpPr/>
          <p:nvPr/>
        </p:nvSpPr>
        <p:spPr>
          <a:xfrm>
            <a:off x="1068480" y="2409840"/>
            <a:ext cx="77356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0595"/>
          <p:cNvSpPr/>
          <p:nvPr/>
        </p:nvSpPr>
        <p:spPr>
          <a:xfrm>
            <a:off x="1020600" y="292428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0596"/>
          <p:cNvSpPr/>
          <p:nvPr/>
        </p:nvSpPr>
        <p:spPr>
          <a:xfrm>
            <a:off x="1001880" y="3486240"/>
            <a:ext cx="77356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0597"/>
          <p:cNvSpPr/>
          <p:nvPr/>
        </p:nvSpPr>
        <p:spPr>
          <a:xfrm>
            <a:off x="982800" y="4029120"/>
            <a:ext cx="77356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0598"/>
          <p:cNvSpPr/>
          <p:nvPr/>
        </p:nvSpPr>
        <p:spPr>
          <a:xfrm>
            <a:off x="934920" y="455292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0599"/>
          <p:cNvSpPr/>
          <p:nvPr/>
        </p:nvSpPr>
        <p:spPr>
          <a:xfrm>
            <a:off x="963720" y="5086440"/>
            <a:ext cx="77356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0600"/>
          <p:cNvSpPr/>
          <p:nvPr/>
        </p:nvSpPr>
        <p:spPr>
          <a:xfrm>
            <a:off x="992160" y="563868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09569" descr=""/>
          <p:cNvPicPr/>
          <p:nvPr/>
        </p:nvPicPr>
        <p:blipFill>
          <a:blip r:embed="rId1"/>
          <a:stretch/>
        </p:blipFill>
        <p:spPr>
          <a:xfrm>
            <a:off x="585720" y="2424240"/>
            <a:ext cx="7972560" cy="2009520"/>
          </a:xfrm>
          <a:prstGeom prst="rect">
            <a:avLst/>
          </a:prstGeom>
          <a:ln w="0">
            <a:noFill/>
          </a:ln>
        </p:spPr>
      </p:pic>
      <p:sp>
        <p:nvSpPr>
          <p:cNvPr id="1491" name="矩形 109570"/>
          <p:cNvSpPr/>
          <p:nvPr/>
        </p:nvSpPr>
        <p:spPr>
          <a:xfrm>
            <a:off x="954000" y="346716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09571"/>
          <p:cNvSpPr/>
          <p:nvPr/>
        </p:nvSpPr>
        <p:spPr>
          <a:xfrm>
            <a:off x="934920" y="399096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90600" y="1324080"/>
            <a:ext cx="8362800" cy="420984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4254480" y="2454120"/>
            <a:ext cx="7826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5121360" y="3225960"/>
            <a:ext cx="118584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1092240" y="4387680"/>
            <a:ext cx="8697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6302520" y="4768920"/>
            <a:ext cx="86976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1197000" y="5159520"/>
            <a:ext cx="128592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3905" descr=""/>
          <p:cNvPicPr/>
          <p:nvPr/>
        </p:nvPicPr>
        <p:blipFill>
          <a:blip r:embed="rId1"/>
          <a:stretch/>
        </p:blipFill>
        <p:spPr>
          <a:xfrm>
            <a:off x="385920" y="2290680"/>
            <a:ext cx="8372160" cy="2276640"/>
          </a:xfrm>
          <a:prstGeom prst="rect">
            <a:avLst/>
          </a:prstGeom>
          <a:ln w="0">
            <a:noFill/>
          </a:ln>
        </p:spPr>
      </p:pic>
      <p:sp>
        <p:nvSpPr>
          <p:cNvPr id="1440" name="矩形 123906"/>
          <p:cNvSpPr/>
          <p:nvPr/>
        </p:nvSpPr>
        <p:spPr>
          <a:xfrm>
            <a:off x="5521320" y="3025800"/>
            <a:ext cx="139716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07"/>
          <p:cNvSpPr/>
          <p:nvPr/>
        </p:nvSpPr>
        <p:spPr>
          <a:xfrm>
            <a:off x="5035680" y="3416400"/>
            <a:ext cx="104904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08"/>
          <p:cNvSpPr/>
          <p:nvPr/>
        </p:nvSpPr>
        <p:spPr>
          <a:xfrm>
            <a:off x="7340760" y="4187880"/>
            <a:ext cx="69048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22882" descr=""/>
          <p:cNvPicPr/>
          <p:nvPr/>
        </p:nvPicPr>
        <p:blipFill>
          <a:blip r:embed="rId1"/>
          <a:stretch/>
        </p:blipFill>
        <p:spPr>
          <a:xfrm>
            <a:off x="371520" y="1481040"/>
            <a:ext cx="8400960" cy="389592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22883"/>
          <p:cNvSpPr/>
          <p:nvPr/>
        </p:nvSpPr>
        <p:spPr>
          <a:xfrm>
            <a:off x="8278920" y="3557520"/>
            <a:ext cx="3222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1857" descr=""/>
          <p:cNvPicPr/>
          <p:nvPr/>
        </p:nvPicPr>
        <p:blipFill>
          <a:blip r:embed="rId1"/>
          <a:stretch/>
        </p:blipFill>
        <p:spPr>
          <a:xfrm>
            <a:off x="366840" y="917640"/>
            <a:ext cx="8362800" cy="528624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1858"/>
          <p:cNvSpPr/>
          <p:nvPr/>
        </p:nvSpPr>
        <p:spPr>
          <a:xfrm>
            <a:off x="8164440" y="1700280"/>
            <a:ext cx="3222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1859"/>
          <p:cNvSpPr/>
          <p:nvPr/>
        </p:nvSpPr>
        <p:spPr>
          <a:xfrm>
            <a:off x="8183520" y="3967200"/>
            <a:ext cx="3222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0833" descr=""/>
          <p:cNvPicPr/>
          <p:nvPr/>
        </p:nvPicPr>
        <p:blipFill>
          <a:blip r:embed="rId1"/>
          <a:stretch/>
        </p:blipFill>
        <p:spPr>
          <a:xfrm>
            <a:off x="395280" y="1685880"/>
            <a:ext cx="8353440" cy="348624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0834"/>
          <p:cNvSpPr/>
          <p:nvPr/>
        </p:nvSpPr>
        <p:spPr>
          <a:xfrm>
            <a:off x="8174160" y="3700440"/>
            <a:ext cx="3222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9809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62800" cy="575316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19810"/>
          <p:cNvSpPr/>
          <p:nvPr/>
        </p:nvSpPr>
        <p:spPr>
          <a:xfrm>
            <a:off x="5602320" y="1595520"/>
            <a:ext cx="3222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19811"/>
          <p:cNvSpPr/>
          <p:nvPr/>
        </p:nvSpPr>
        <p:spPr>
          <a:xfrm>
            <a:off x="8183520" y="4672080"/>
            <a:ext cx="3222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18785" descr=""/>
          <p:cNvPicPr/>
          <p:nvPr/>
        </p:nvPicPr>
        <p:blipFill>
          <a:blip r:embed="rId1"/>
          <a:stretch/>
        </p:blipFill>
        <p:spPr>
          <a:xfrm>
            <a:off x="395280" y="1347840"/>
            <a:ext cx="8353440" cy="416232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18786"/>
          <p:cNvSpPr/>
          <p:nvPr/>
        </p:nvSpPr>
        <p:spPr>
          <a:xfrm>
            <a:off x="8211960" y="1700280"/>
            <a:ext cx="32256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18787"/>
          <p:cNvSpPr/>
          <p:nvPr/>
        </p:nvSpPr>
        <p:spPr>
          <a:xfrm>
            <a:off x="8193240" y="3681360"/>
            <a:ext cx="3222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17761" descr=""/>
          <p:cNvPicPr/>
          <p:nvPr/>
        </p:nvPicPr>
        <p:blipFill>
          <a:blip r:embed="rId1"/>
          <a:stretch/>
        </p:blipFill>
        <p:spPr>
          <a:xfrm>
            <a:off x="333360" y="1719360"/>
            <a:ext cx="83818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1:36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